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5.wmf" ContentType="image/x-wmf"/>
  <Override PartName="/ppt/media/image11.png" ContentType="image/png"/>
  <Override PartName="/ppt/media/image3.gif" ContentType="image/gi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3E6-60A1-44AE-AA3C-04C12CC0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804-C2F6-4CED-9E66-4252F469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597-8C33-4E28-A108-B0E37C26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C34-7C93-4C40-8D01-BC4F7537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DF6-60D2-4C91-8BCD-FB604C46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C2B-ACBB-4F8A-9F21-6ECD60B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FC3-DBE5-4D49-B913-195921F8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BDB-1D24-4465-AB2A-DA8E1482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152-4035-4F5C-AF62-74D616C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559-7871-4077-8C47-57B02671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9DF-7D17-4566-922B-D6A22E72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43F-C972-4B78-9DA4-E3191400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3A42-EC82-4C7C-AF20-9C3A5287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"/>
          <p:cNvPicPr/>
          <p:nvPr/>
        </p:nvPicPr>
        <p:blipFill>
          <a:blip r:embed="rId1"/>
          <a:stretch/>
        </p:blipFill>
        <p:spPr>
          <a:xfrm>
            <a:off x="7920" y="990720"/>
            <a:ext cx="1182600" cy="2209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-76320" y="21337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"/>
          <p:cNvPicPr/>
          <p:nvPr/>
        </p:nvPicPr>
        <p:blipFill>
          <a:blip r:embed="rId2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Documents and Settings\Administrator\桌面\1121315675897.gif"/>
          <p:cNvPicPr/>
          <p:nvPr/>
        </p:nvPicPr>
        <p:blipFill>
          <a:blip r:embed="rId3"/>
          <a:stretch/>
        </p:blipFill>
        <p:spPr>
          <a:xfrm flipH="1">
            <a:off x="7772400" y="4199040"/>
            <a:ext cx="1101600" cy="265896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 rot="20855400">
            <a:off x="8371800" y="444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 rot="641400">
            <a:off x="8313120" y="623520"/>
            <a:ext cx="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 rot="876600">
            <a:off x="8461800" y="10490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 rot="20769600">
            <a:off x="8375760" y="1204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914400" y="190512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在一次体育课上，体育老师对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班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进行了立定跳远项目的测试，测试所得分数及相应的人数如图所示，则这次测试的平均分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2212920" cy="118296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4143600" y="29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143000" y="5105520"/>
            <a:ext cx="11248920" cy="725400"/>
          </a:xfrm>
          <a:prstGeom prst="rect">
            <a:avLst/>
          </a:prstGeom>
          <a:ln w="0">
            <a:noFill/>
          </a:ln>
        </p:spPr>
      </p:pic>
      <p:sp>
        <p:nvSpPr>
          <p:cNvPr id="89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914400" y="152892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对某校八年级随机抽取若干名学生进行体能测试，成绩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等级，将调查结果绘制成如下条形统计图和扇形统计图．根据图中信息，该测试的平均数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90800" y="3263760"/>
            <a:ext cx="4257720" cy="169092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1371600" y="525780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25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5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95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7023960" y="2571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838080" y="167472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次能力测试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的成绩统计如下表，则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成绩的平均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87640" y="3200400"/>
          <a:ext cx="3873600" cy="1635120"/>
        </p:xfrm>
        <a:graphic>
          <a:graphicData uri="http://schemas.openxmlformats.org/drawingml/2006/table">
            <a:tbl>
              <a:tblPr/>
              <a:tblGrid>
                <a:gridCol w="952560"/>
                <a:gridCol w="583920"/>
                <a:gridCol w="584280"/>
                <a:gridCol w="584280"/>
                <a:gridCol w="584280"/>
                <a:gridCol w="584280"/>
              </a:tblGrid>
              <a:tr h="81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矩形 3"/>
          <p:cNvSpPr/>
          <p:nvPr/>
        </p:nvSpPr>
        <p:spPr>
          <a:xfrm>
            <a:off x="3992760" y="220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266760" y="1722600"/>
            <a:ext cx="8636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校举办八年级学生数学素养大赛，比赛共设四个项目：七巧板拼图，趣题巧解，数学应用，魔方复原，每个项目得分都按一定百分比折算后记入总分，下表为甲，乙，丙三位同学得分情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2200" y="3490920"/>
          <a:ext cx="53323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285920"/>
                <a:gridCol w="1287360"/>
                <a:gridCol w="1285920"/>
              </a:tblGrid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七巧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拼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趣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巧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魔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533520" y="13017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赛后，甲猜测七巧板拼图，趣题巧解，数学应用，魔方复原这四个项目得分分别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折算后记入总分，根据猜测，求出甲的总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题意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得甲的总分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6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6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8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9.8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次大赛组委会决定，总分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以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包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学生获一等奖，现获悉乙，丙的总分分别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．甲的七巧板拼图、魔方复原两项得分折算后的分数和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问甲能否获得这次比赛的一等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380880" y="18288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设趣题巧解所占的百分比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数学应用所占的百分比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由题意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901800" y="2374920"/>
            <a:ext cx="9056520" cy="129528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1371600" y="41911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∴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甲的总分为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6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.4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1.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＞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∴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甲能获一等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622440" y="167652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风景区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旅游景点的门票价格进行了调整，据统计，调价前后各景点的旅客人数基本不变．有关数据如下表所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54040" y="2895480"/>
          <a:ext cx="5327640" cy="1752840"/>
        </p:xfrm>
        <a:graphic>
          <a:graphicData uri="http://schemas.openxmlformats.org/drawingml/2006/table">
            <a:tbl>
              <a:tblPr/>
              <a:tblGrid>
                <a:gridCol w="2070360"/>
                <a:gridCol w="650880"/>
                <a:gridCol w="652320"/>
                <a:gridCol w="650880"/>
                <a:gridCol w="652320"/>
                <a:gridCol w="650880"/>
              </a:tblGrid>
              <a:tr h="43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景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现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日人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千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279360" y="144792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风景区称调整前后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景点门票的平均收费不变，平均日总收入持平．问风景区是怎样计算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风景区是这样计算的：调整前的平均价格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调整后的平均价格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∴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调整后的平均价格不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均日人数不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∴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均日总收入持平　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993600" y="2819520"/>
            <a:ext cx="12227040" cy="90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114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533520" y="1481040"/>
            <a:ext cx="83008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另一方面，游客认为调整收费后风景区的平均日总收入相对于调价前，实际上增加了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.4%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问游客是怎样计算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游客是这样计算的：原平均日总收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元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现平均日总收入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元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∴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均日总收入增加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认为风景区和游客哪一个的说法较能反映整体实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0518840" cy="782640"/>
          </a:xfrm>
          <a:prstGeom prst="rect">
            <a:avLst/>
          </a:prstGeom>
          <a:ln w="0">
            <a:noFill/>
          </a:ln>
        </p:spPr>
      </p:pic>
      <p:sp>
        <p:nvSpPr>
          <p:cNvPr id="117" name="矩形 2"/>
          <p:cNvSpPr/>
          <p:nvPr/>
        </p:nvSpPr>
        <p:spPr>
          <a:xfrm>
            <a:off x="533520" y="52801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根据加权平均数的定义可知，游客的算法是正确的，故游客的说法较能反映整体实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5分钟预习导航"/>
          <p:cNvPicPr/>
          <p:nvPr/>
        </p:nvPicPr>
        <p:blipFill>
          <a:blip r:embed="rId1"/>
          <a:stretch/>
        </p:blipFill>
        <p:spPr>
          <a:xfrm>
            <a:off x="457200" y="1371600"/>
            <a:ext cx="361944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1066680" y="2057400"/>
            <a:ext cx="762012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般地，我们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和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，叫做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数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简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记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读作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拔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组数据里的各个数据的重要程度不一定相同，在计算它们的平均数时，往往给每个数据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权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由此求出的平均数叫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均数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数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权重分别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数的加权平均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373560" y="5181480"/>
            <a:ext cx="8470800" cy="94320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2046240" y="2617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算术平均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5114520" y="2651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均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1352880" y="44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610080" cy="392040"/>
          </a:xfrm>
          <a:prstGeom prst="rect">
            <a:avLst/>
          </a:prstGeom>
          <a:ln w="0">
            <a:noFill/>
          </a:ln>
        </p:spPr>
      </p:pic>
      <p:sp>
        <p:nvSpPr>
          <p:cNvPr id="57" name="矩形 1"/>
          <p:cNvSpPr/>
          <p:nvPr/>
        </p:nvSpPr>
        <p:spPr>
          <a:xfrm>
            <a:off x="609480" y="185256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市某一周的日最高气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周的日最高气温的平均值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8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9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一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心互助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捐款活动中，某班第一小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同学捐款的金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下表所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19520" y="4265640"/>
          <a:ext cx="3276360" cy="1219320"/>
        </p:xfrm>
        <a:graphic>
          <a:graphicData uri="http://schemas.openxmlformats.org/drawingml/2006/table">
            <a:tbl>
              <a:tblPr/>
              <a:tblGrid>
                <a:gridCol w="1112760"/>
                <a:gridCol w="514440"/>
                <a:gridCol w="514080"/>
                <a:gridCol w="513000"/>
                <a:gridCol w="622080"/>
              </a:tblGrid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额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矩形 3"/>
          <p:cNvSpPr/>
          <p:nvPr/>
        </p:nvSpPr>
        <p:spPr>
          <a:xfrm>
            <a:off x="152280" y="57150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捐款的平均金额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5641560" y="241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808440" y="5869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380880" y="167652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近年来，义乌市民用汽车拥有量持续增长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该市民用汽车拥有量依次约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位：万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五个数的平均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380880" y="34290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3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株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招聘考试分笔试和面试两种，其中笔试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面试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加权平均数作为总成绩．孔明笔试成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面试成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那么孔明的总成绩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4421880" y="265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4845600" y="440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609480" y="160020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市广播电视局欲招聘播音员一名，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名候选人进行了三项测试，两人的三项测试成绩如表所示．根据实际需要，广播电视局将面试、笔试和上镜效果测试的得分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例计算两人的总成绩，那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被录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52480" y="3809880"/>
          <a:ext cx="4876920" cy="2133720"/>
        </p:xfrm>
        <a:graphic>
          <a:graphicData uri="http://schemas.openxmlformats.org/drawingml/2006/table">
            <a:tbl>
              <a:tblPr/>
              <a:tblGrid>
                <a:gridCol w="3079800"/>
                <a:gridCol w="898560"/>
                <a:gridCol w="89856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测试项目测试成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面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笔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镜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矩形 3"/>
          <p:cNvSpPr/>
          <p:nvPr/>
        </p:nvSpPr>
        <p:spPr>
          <a:xfrm>
            <a:off x="3050280" y="3040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1"/>
          <p:cNvPicPr/>
          <p:nvPr/>
        </p:nvPicPr>
        <p:blipFill>
          <a:blip r:embed="rId1"/>
          <a:stretch/>
        </p:blipFill>
        <p:spPr>
          <a:xfrm>
            <a:off x="3200400" y="1752480"/>
            <a:ext cx="1859040" cy="1933560"/>
          </a:xfrm>
          <a:prstGeom prst="rect">
            <a:avLst/>
          </a:prstGeom>
          <a:ln w="0">
            <a:noFill/>
          </a:ln>
        </p:spPr>
      </p:pic>
      <p:sp>
        <p:nvSpPr>
          <p:cNvPr id="73" name="矩形 1"/>
          <p:cNvSpPr/>
          <p:nvPr/>
        </p:nvSpPr>
        <p:spPr>
          <a:xfrm>
            <a:off x="990720" y="392436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一次捐款活动中，某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人人拿出自己的零花钱，有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的，还有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的．如图反映了不同捐款数的人数比例，那么该班同学平均每人捐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______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6251040" y="4933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685800" y="1434960"/>
            <a:ext cx="779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学期期末考试后，小林同学数学科的期末考试成绩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7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但他平时数学测试的成绩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9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期中数学考试成绩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问他一学期的数学平均成绩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期末总评成绩按：平时成绩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期中成绩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期末成绩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，那么该同学期末总评数学成绩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000620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685800" y="5191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76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5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80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30%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8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533520" y="124920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易错盘点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例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九年级期中考试数学成绩如下：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，平均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分；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，平均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分；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，平均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分；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人，平均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分，求年级平均分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错解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设年级平均分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8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5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错因分析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错误在没有考虑各班人数不同，也就是每个数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重要程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同，所以应该求这组数据的加权平均数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正解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914400" y="2187720"/>
            <a:ext cx="745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某居民院内月底统计用电情况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户用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户用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户用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，则平均每户用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　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　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5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　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222920" y="345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498040" y="762120"/>
            <a:ext cx="39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23.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平均数与加权平均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Administrator</cp:lastModifiedBy>
  <dcterms:modified xsi:type="dcterms:W3CDTF">2015-09-10T00:53:4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